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E75-C73C-425A-951B-3BE67E86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8FC-0B91-4272-93A0-EF1221D1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BF3-8DFF-4869-8A41-D0FEAB45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6AD-01B7-43A9-B5F5-90A8133C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5A9-F070-49FF-AE17-423261A9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661-A5B7-4A0E-ADF6-34C23F0D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F08-79C8-4B87-A9A9-4CEA2927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61A-4111-478E-8B3D-5D6DD74E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7D9-A3F6-49CF-9FA8-5A99AEB5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C35-D4DC-447F-9494-8DD2E343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5F5-59F3-4A88-B3FD-5238CFFB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CD4-7BE4-474A-8677-2C967AC2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720D-EA17-4088-AF5D-DAC76D891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3333cc"/>
                </a:solidFill>
                <a:latin typeface="Tahoma"/>
              </a:rPr>
              <a:t>Healthy Marriages and </a:t>
            </a:r>
            <a:br>
              <a:rPr sz="3400"/>
            </a:br>
            <a:r>
              <a:rPr b="0" i="1" lang="en-US" sz="3400" spc="-1" strike="noStrike">
                <a:solidFill>
                  <a:srgbClr val="3333cc"/>
                </a:solidFill>
                <a:latin typeface="Tahoma"/>
              </a:rPr>
              <a:t>Healthy Relationships:  </a:t>
            </a:r>
            <a:br>
              <a:rPr sz="3400"/>
            </a:br>
            <a:r>
              <a:rPr b="0" i="1" lang="en-US" sz="3400" spc="-1" strike="noStrike">
                <a:solidFill>
                  <a:srgbClr val="3333cc"/>
                </a:solidFill>
                <a:latin typeface="Tahoma"/>
              </a:rPr>
              <a:t>Conceptualization and Measurement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ristin A. Moore, Ph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cinta Bronte-Tinkew, Ph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san Jekielek, Ph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zanne Ryan, Ph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a Guzman, 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akia Redd, MP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nnifer Carrano, BA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vember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T%20logo%20medium" descr=""/>
          <p:cNvPicPr/>
          <p:nvPr/>
        </p:nvPicPr>
        <p:blipFill>
          <a:blip r:embed="rId1"/>
          <a:stretch/>
        </p:blipFill>
        <p:spPr>
          <a:xfrm>
            <a:off x="3352680" y="5715000"/>
            <a:ext cx="226692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Why is it important to distinguish the predictors of healthy marriage from the definition of healthy marriag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T%20logo%20medium" descr=""/>
          <p:cNvPicPr/>
          <p:nvPr/>
        </p:nvPicPr>
        <p:blipFill>
          <a:blip r:embed="rId1"/>
          <a:stretch/>
        </p:blipFill>
        <p:spPr>
          <a:xfrm>
            <a:off x="7315200" y="609588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conceptual reason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We are not willing to say that a marriage that lacks certain elements is by definition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healt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03048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A lack of a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A lack of soci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A lack of religi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The presence of mental health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T%20logo%20medium" descr=""/>
          <p:cNvPicPr/>
          <p:nvPr/>
        </p:nvPicPr>
        <p:blipFill>
          <a:blip r:embed="rId1"/>
          <a:stretch/>
        </p:blipFill>
        <p:spPr>
          <a:xfrm>
            <a:off x="7315200" y="609588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12952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conceptual reason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A healthy marriage is a couple construct, while many of the antecedents are at the individual level, or other le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34732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Physical and ment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Soci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practical reason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To distinguish etiological factors from outcomes helps to build a conceptual model and clarifies potential points of interven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35040" y="10666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tece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30120" y="10666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48000" y="106668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1523880"/>
            <a:ext cx="1904760" cy="5504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ocial context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macro-level fac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1523880"/>
            <a:ext cx="1981440" cy="4648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Healthy Marriage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Relationshi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Satisfactio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unicatio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Marital status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nflict/confli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Violence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Fidelity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Interaction/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ogether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Intimacy/emotiona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support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itment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he couple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itment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he childre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(Durat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1523880"/>
            <a:ext cx="1371600" cy="1691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ocial, personal, economic and family outcomes, including paren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3680" y="106668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26040" y="228600"/>
            <a:ext cx="45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easurement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3276720"/>
            <a:ext cx="1904760" cy="5504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Family background character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1523880"/>
            <a:ext cx="2209680" cy="4491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Employment,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Edu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Mental heal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Physical heal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St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ubstance u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Family backgrou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aracter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Social sup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Incarc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Religios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Attitudes and val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ildren from a pr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relationshi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Community con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53280" y="1523880"/>
            <a:ext cx="762120" cy="778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well-be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2057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057400"/>
            <a:ext cx="1522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01000" y="2057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182880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58128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s with the antecedents of a healthy marriage/relationship, the consequences of a healthy marriage/relationship need to be distinguished from the definition of a healthy marriage/relationsh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Social, personal, economic and family outcomes, including parenting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Child well-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387880" y="10666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ntece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30120" y="10666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7560" y="10666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1523880"/>
            <a:ext cx="1904760" cy="550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ocial context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macro-level fac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1523880"/>
            <a:ext cx="1981440" cy="4648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Healthy Marriage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Relationshi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Satisfactio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unicatio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Marital status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nflict/confli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Violence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Fidelity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Interaction/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ogether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Intimacy/emotiona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support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itment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he couple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itment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he childre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(Durat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523880"/>
            <a:ext cx="1371600" cy="16916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ocial, personal, economic and family outcomes, including paren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2560" y="106668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26040" y="228600"/>
            <a:ext cx="45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easurement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3276720"/>
            <a:ext cx="1904760" cy="550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Family background character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523880"/>
            <a:ext cx="2209680" cy="4491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Employment,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Edu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Mental heal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Physical heal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St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ubstance u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Family backgrou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aracter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Social sup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Incarc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Religios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Attitudes and val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ildren from a pr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relationshi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Community con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1523880"/>
            <a:ext cx="762120" cy="7786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well-be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2057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2057400"/>
            <a:ext cx="1522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2057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182880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358128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87880" y="10666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ntece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0800" y="10666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ahoma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48000" y="106668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1523880"/>
            <a:ext cx="1904760" cy="550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ocial context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macro-level fac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523880"/>
            <a:ext cx="1981440" cy="480060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Healthy Marriage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Relationshi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Font typeface="Tahoma"/>
              <a:buChar char="-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Satisfactio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unicatio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Marital status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nflict/confli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Violence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Fidelity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Interaction/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ogether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Intimacy/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emotiona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support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itment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he couple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Commitment 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the children</a:t>
            </a:r>
            <a:br>
              <a:rPr sz="1500"/>
            </a:br>
            <a:r>
              <a:rPr b="0" lang="en-US" sz="1500" spc="-1" strike="noStrike">
                <a:solidFill>
                  <a:srgbClr val="00cc99"/>
                </a:solidFill>
                <a:latin typeface="Tahoma"/>
              </a:rPr>
              <a:t>- (Durat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523880"/>
            <a:ext cx="1371600" cy="1691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ocial, personal, economic and family outcomes, including paren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2560" y="106668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26040" y="228600"/>
            <a:ext cx="45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easurement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3276720"/>
            <a:ext cx="1904760" cy="550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Family background character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523880"/>
            <a:ext cx="2209680" cy="4491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Employment,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Edu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Mental heal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Physical heal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St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Substance u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Family backgrou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aracter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Social sup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Incarc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Religios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Attitudes and val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ildren from a pr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relationshi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- Community conte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1523880"/>
            <a:ext cx="762120" cy="778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ahoma"/>
              </a:rPr>
              <a:t>well-be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057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057400"/>
            <a:ext cx="1522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01000" y="2057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182880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358128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urning now to the definition of a healthy marriage/relationship,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Is there a single definition of a healthy marriage or relationshi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7760" y="3916440"/>
            <a:ext cx="50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As our task is defined, 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4800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0720" indent="-45072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 definition of a healthy marriage or relationship varies across family structure sub-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1720" indent="-3510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The presence of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01720" indent="-3510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Family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re are many possible moderators.  For our work, the critical moderators or sub-group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0720" indent="-45072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ur project focuses primarily on couples with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Goal: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 To create a scale or index that measures a healthy marriage or relationship for use in intervention evaluatio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4572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re are Multiple Types of Family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2280" y="1620720"/>
          <a:ext cx="8763120" cy="4678560"/>
        </p:xfrm>
        <a:graphic>
          <a:graphicData uri="http://schemas.openxmlformats.org/drawingml/2006/table">
            <a:tbl>
              <a:tblPr/>
              <a:tblGrid>
                <a:gridCol w="1295640"/>
                <a:gridCol w="1371600"/>
                <a:gridCol w="1676160"/>
                <a:gridCol w="1371600"/>
                <a:gridCol w="1067040"/>
                <a:gridCol w="1981080"/>
              </a:tblGrid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w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Resident Biological Par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Remarried or Cohabitating Couples with Step-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on-residential Estranged Cou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Visiting Couples Who Are Par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Institutionalized Popu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prison, milita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4111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nd Multipl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1371600"/>
          <a:ext cx="8763120" cy="4910040"/>
        </p:xfrm>
        <a:graphic>
          <a:graphicData uri="http://schemas.openxmlformats.org/drawingml/2006/table">
            <a:tbl>
              <a:tblPr/>
              <a:tblGrid>
                <a:gridCol w="3581640"/>
                <a:gridCol w="990360"/>
                <a:gridCol w="838440"/>
                <a:gridCol w="1066680"/>
                <a:gridCol w="1219320"/>
                <a:gridCol w="1066680"/>
              </a:tblGrid>
              <a:tr h="2919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Satisf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mmun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Marital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Viol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Fide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Interaction/Time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Intimacy/Emotional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nflict/Conflict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mmitment to the Cou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mmitment to the 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(Dura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" y="4255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ahoma"/>
              </a:rPr>
              <a:t>Family Structure Types and Components of Healthy Marriage </a:t>
            </a:r>
            <a:r>
              <a:rPr b="0" lang="en-US" sz="21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3333cc"/>
                </a:solidFill>
                <a:latin typeface="Tahoma"/>
              </a:rPr>
              <a:t> A Gr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" y="1447920"/>
          <a:ext cx="8763120" cy="4719600"/>
        </p:xfrm>
        <a:graphic>
          <a:graphicData uri="http://schemas.openxmlformats.org/drawingml/2006/table">
            <a:tbl>
              <a:tblPr/>
              <a:tblGrid>
                <a:gridCol w="2743200"/>
                <a:gridCol w="1219320"/>
                <a:gridCol w="1143000"/>
                <a:gridCol w="1044360"/>
                <a:gridCol w="1152720"/>
                <a:gridCol w="1460520"/>
              </a:tblGrid>
              <a:tr h="2919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mpon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Resident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on-resident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wo Resident Biological Par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Remarried or Cohabitating Couples with Step-childr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on-residential Estranged Coup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Visiting Couples Who Are Par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Institutionalized Popul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prison, military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Satisfa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mmunic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Marital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Viole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Fide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Interaction/Time Togeth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Intimacy/Emotional Suppor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nflict/Conflict Resolu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mmitment to the Coup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Commitment to the Childr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(Duratio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cc99"/>
                          </a:solidFill>
                          <a:latin typeface="Tahoma"/>
                        </a:rPr>
                        <a:t>Total =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cc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1143000"/>
            <a:ext cx="8153280" cy="52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How do we sum the compon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57200">
              <a:lnSpc>
                <a:spcPct val="100000"/>
              </a:lnSpc>
              <a:spcBef>
                <a:spcPts val="814"/>
              </a:spcBef>
              <a:buClr>
                <a:srgbClr val="00cc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ahoma"/>
              </a:rPr>
              <a:t>Do different components of a healthy marriage carry greater weigh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57200">
              <a:lnSpc>
                <a:spcPct val="100000"/>
              </a:lnSpc>
              <a:spcBef>
                <a:spcPts val="814"/>
              </a:spcBef>
              <a:buClr>
                <a:srgbClr val="00cc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ahoma"/>
              </a:rPr>
              <a:t>What metric do we us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Do we define cut points for a healthy, unhealthy, or “good enough” marriage relation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57200">
              <a:lnSpc>
                <a:spcPct val="100000"/>
              </a:lnSpc>
              <a:spcBef>
                <a:spcPts val="814"/>
              </a:spcBef>
              <a:buClr>
                <a:srgbClr val="00cc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ahoma"/>
              </a:rPr>
              <a:t>An “unhealthy marriage/relationship” could be defined (violence, infidelity), but “healthy”….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57200">
              <a:lnSpc>
                <a:spcPct val="100000"/>
              </a:lnSpc>
              <a:spcBef>
                <a:spcPts val="814"/>
              </a:spcBef>
              <a:buClr>
                <a:srgbClr val="00cc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ahoma"/>
              </a:rPr>
              <a:t>For now, we seek an ordinal inde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82240" y="304920"/>
            <a:ext cx="60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Questions to be Address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0720" indent="-450720"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Tahoma"/>
              </a:rPr>
              <a:t>Should a healthy marriage be measured at the level of the individual, the couple, or both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440" y="27428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99"/>
                </a:solidFill>
                <a:latin typeface="Tahoma"/>
              </a:rPr>
              <a:t>- Blaine Fowers’ conceptual and empirical work critiques current relationship quality measures for their extensive emphasis on individualism and personal happ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 healthy marriage or relationship, is largely a couple construct, but includes self/other report items from and about individuals , and can be assessed with observational measures as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Next Step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Identify and develop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Absorb and respond to comments and sugg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2600" y="0"/>
          <a:ext cx="9136080" cy="685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0"/>
                    <a:ext cx="913608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8600" y="3429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www.childtrends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4495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www.childtrendsdatabank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CTlogo" descr=""/>
          <p:cNvPicPr/>
          <p:nvPr/>
        </p:nvPicPr>
        <p:blipFill>
          <a:blip r:embed="rId3"/>
          <a:stretch/>
        </p:blipFill>
        <p:spPr>
          <a:xfrm>
            <a:off x="1447920" y="685800"/>
            <a:ext cx="617220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What is a “healthy marriage” or a “healthy relationship”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With funding from the Administration for Children and Families and the NICHD Family and Child Wellbeing Research Network, Child Trends ha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…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ild Trends h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Compiled a compendium of measures of healthy marriage/relationship (available on a 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Commissioned memos from scholars on the measurement of a healthy marriage/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Reviewed the research literature on the conceptualization and measurement of healthy marriages and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Synthesized conclusions and gaps regarding the measurement of a healthy marriage for critical sub-pop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T%20logo%20medium" descr=""/>
          <p:cNvPicPr/>
          <p:nvPr/>
        </p:nvPicPr>
        <p:blipFill>
          <a:blip r:embed="rId1"/>
          <a:stretch/>
        </p:blipFill>
        <p:spPr>
          <a:xfrm>
            <a:off x="7391520" y="6172200"/>
            <a:ext cx="144756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…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nd Child Trends is working 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520" y="220932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Examining and developing concrete measures of healthy marriage and relationships for use in intervention evaluations and other research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Working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healthy marriage/relationshi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1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Is a continuum (not a yes/no construct, but a scale or ind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Needs to be assessed differently across subpop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7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Two resident biological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45072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Remarried or cohabitating couples with step-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45072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Non-residential estranged co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45072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Visiting couples who are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Institutionalized populations (prison, milit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0720" indent="-450720">
              <a:lnSpc>
                <a:spcPct val="100000"/>
              </a:lnSpc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Has multiple elements, including:</a:t>
            </a:r>
            <a:br>
              <a:rPr sz="32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Satisfaction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Communication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Marital status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Conflict/conflict resolution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Violence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Fidelity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Interaction/time together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Intimacy/emotional support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Commitment to the couple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Commitment to the children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(Duration)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049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(this continues Working Assump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T%20logo%20medium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ealthy marriage needs to be distinguished from the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predictor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of a healthy marriage or relationship.  </a:t>
            </a:r>
            <a:br>
              <a:rPr sz="2800"/>
            </a:br>
            <a:br>
              <a:rPr sz="1200"/>
            </a:b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factors can influence a healthy marri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mployment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ducation and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Ment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Physic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Substance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Family background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Social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Incarc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ligi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Attitudes and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Children from a prior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Community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T%20logo%20medium" descr=""/>
          <p:cNvPicPr/>
          <p:nvPr/>
        </p:nvPicPr>
        <p:blipFill>
          <a:blip r:embed="rId1"/>
          <a:stretch/>
        </p:blipFill>
        <p:spPr>
          <a:xfrm>
            <a:off x="7315200" y="6095880"/>
            <a:ext cx="1447920" cy="49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7:42:55Z</dcterms:created>
  <dc:creator>tholland</dc:creator>
  <dc:description/>
  <dc:language>en-US</dc:language>
  <cp:lastModifiedBy>tholland</cp:lastModifiedBy>
  <dcterms:modified xsi:type="dcterms:W3CDTF">2003-10-31T19:16:47Z</dcterms:modified>
  <cp:revision>30</cp:revision>
  <dc:subject/>
  <dc:title>Relationship Quality   Kristin A. Moore, Ph.D. Jacinta Bronte-Tinkew, Ph.D. Susan Jekielek, Ph.D. Suzanne Ryan Lina Guzman Zakia Redd Jennifer Carrano   November, 2003</dc:title>
</cp:coreProperties>
</file>